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CEEE-1DD0-4E6F-A5F7-F31D6744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D5A4-23C6-4613-B9EF-4AA790D0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4312-F21B-403E-BF77-3EE6605B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DA11-95EB-4114-BC3A-9FF1A2CD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7288-9ED3-4A3A-BEAA-A1D87373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B2D0-15D5-4C82-A3DF-43DCE51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05C0-58A3-44BA-A154-B8CDAC57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EC58-D717-48F1-ABCA-9E726E7A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E81-CD49-4ED0-95F2-155864BA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608-A6BD-4F42-B660-20B7A8FA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F7D5-90EF-4A80-9312-6C275AD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E359-E278-4111-9FD8-79D9BAF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81EA-3B45-4532-A536-BC75DE7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1FA-B6BD-4E13-A72B-4E8859A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D4C6-A5A7-465E-ABF4-A6C5F9F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26DA-D392-4A62-B661-AB1A1E60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4227-480F-404C-A117-30989766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E69B-486D-48D8-A3C2-14510A0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2C80-D62B-4F59-9DAD-9FC3E55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CC0F-3409-46C9-A987-D9B14D2E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69FC-4DBB-4C0C-BFF0-302871B0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95A5-AA1A-40AE-9E01-2586B1CA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C3DE-1B80-4C7F-AAB0-DCB7FB9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A550-C7E0-4F4A-8177-97DA03E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27C9-8001-4077-ADD0-8F7B5EAEB3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CDF4-8DD0-49D2-8BD8-F99D8C6AE6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dfdef6"/>
                </a:solidFill>
                <a:latin typeface="Arial"/>
              </a:rPr>
              <a:t>APARIŢIA ŞI RĂSPÂNDIREA CREŞTINISMULUI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90720" y="3890520"/>
            <a:ext cx="67816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(Adaptat după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clasa a V-a</a:t>
            </a: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rimisul lui Dumnezeu, fiul său, Isus, se naşte la Bethleem şi trăieşte la Nazareth. Viaţa sa este povestită în cele patru Evanghelii cunoscute şi sub numele de Noul Testament – scrierea sfântă a creştinilor. La 30 de ani, Isus începe să predice cuvântul lui Dumnezeu în Galileea, o provincie a Palestine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entru a arăta natura sa divină, Isus săvârşeşte miracole. Dintre discipolii săi, doisprezece sunt aleşi pentru a duce mai departe în întreaga lume noua învăţătură. Ei sunt numiţi apostoli, iar cel mai important este Petru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Isus predică pentru cei slabi, săraci sau persecutaţi, promiţându-le împărăţia cerurilor, a lui Dumnezeu cel unic şi atotputernic. Noua credinţă se răspândeşte repe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vreii aşteptau un alt fel de Mesia, venind să-i elibereze de sub stăpânirea romană. De aceea nu îl recunos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onsiderându-l impostor, preoţii îl predau romanilor. Aceştia îl judecă şi îl condamnă la moarte prin crucific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rcRect l="0" t="53063" r="0" b="0"/>
          <a:stretch/>
        </p:blipFill>
        <p:spPr>
          <a:xfrm>
            <a:off x="5181480" y="3368520"/>
            <a:ext cx="1435320" cy="67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dfdef6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dfdef6"/>
                </a:solidFill>
                <a:latin typeface="Arial"/>
              </a:rPr>
              <a:t> – document de lucru</a:t>
            </a:r>
            <a:br>
              <a:rPr sz="4000"/>
            </a:br>
            <a:endParaRPr b="0" lang="en-US" sz="1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Redactaţi pe scurt semnificaţia următorilor terme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ercen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rdonaţi cronologic următoarele evenimente 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ivizarea Imperiului ro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retragerea administraţiei şi armatei romane din Dac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venirea hunilor în Euro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e urmări au av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ătrunderea ostrogoţilor în It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Justin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domnia împăratului Diocleţia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fica</cp:lastModifiedBy>
  <dcterms:modified xsi:type="dcterms:W3CDTF">2012-06-19T10:59:59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